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A3E6-1726-4562-BE42-8256E8D97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7F7C-70CD-4BC0-BDD8-9BBF375CC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E17F-9A9E-4539-82B0-46B1BA216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81EA-F343-4407-8E84-A66DE17E5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11E02-5E38-4401-A0F3-EDC74D0BD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E5329-2397-45F4-825B-993539DF3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2F6EF-7F4C-4AA6-940F-7156C6028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4EE86-EBE0-4CD0-86DC-19B758AD7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55207-2831-457D-8703-013DB9B91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7872E-531A-4DAC-BB9E-2FC8B1C05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B45FF-F7D4-4B36-84FC-7404FF5F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3392-8EBF-4F41-937C-6575DFA00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B1835-3ED5-4A89-8432-F9646D9A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B1888-16E8-4A9E-9E2B-22F7E0DD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7C676-3308-477E-94C6-482AFA12C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3C009-B6FD-4ABE-989A-5443F899A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118B3-60C0-415B-950C-344C7092C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6D89-5AD5-44E2-A4CE-7582457A5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A83D-E741-465F-89E4-566DA56D5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D50A-2484-4874-BD75-947198C5B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A29E-7C9F-4C61-AD02-8B29F5DF2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D9E2-988A-4B12-84F3-6DAA4390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227E-217C-48B3-B9A6-4330AB50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01EC-BD36-45C7-84FC-F810C187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xpbanna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45780-33E0-4C6A-9E12-ADB37AE0095D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EXPHORSA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B9ED4-E7AC-4BE6-A37F-A43601E470FF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Expbanna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EXPHORSA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EXPHORSA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Adobe Garamond Pro Bold"/>
              </a:rPr>
              <a:t>Asad ul Malik</a:t>
            </a:r>
            <a:endParaRPr b="0" lang="en-US" sz="4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76480" y="2376000"/>
            <a:ext cx="7083360" cy="197964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8000"/>
                </a:solidFill>
                <a:latin typeface="Times New Roman"/>
              </a:rPr>
              <a:t>Country         :: Pakist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8000"/>
                </a:solidFill>
                <a:latin typeface="Times New Roman"/>
              </a:rPr>
              <a:t>Me in class    ::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9th gr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cc00"/>
                </a:solidFill>
                <a:latin typeface="Times New Roman"/>
              </a:rPr>
              <a:t>My interest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 :: football, music, fil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66"/>
                </a:solidFill>
                <a:latin typeface="Times New Roman"/>
              </a:rPr>
              <a:t>My favourite subject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: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00200" y="5334120"/>
            <a:ext cx="6858000" cy="1015920"/>
          </a:xfrm>
          <a:prstGeom prst="rect">
            <a:avLst/>
          </a:prstGeom>
          <a:solidFill>
            <a:srgbClr val="482400"/>
          </a:solidFill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Proud to be the part of Asia Europe Class Netwo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And thank you for giving me a chance in HisBulP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akistan" descr=""/>
          <p:cNvPicPr/>
          <p:nvPr/>
        </p:nvPicPr>
        <p:blipFill>
          <a:blip r:embed="rId6"/>
          <a:stretch/>
        </p:blipFill>
        <p:spPr>
          <a:xfrm>
            <a:off x="7086600" y="533520"/>
            <a:ext cx="145080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3T10:55:33Z</dcterms:created>
  <dc:creator>pasha</dc:creator>
  <dc:description/>
  <dc:language>en-US</dc:language>
  <cp:lastModifiedBy>Sumi</cp:lastModifiedBy>
  <dcterms:modified xsi:type="dcterms:W3CDTF">2010-01-26T23:56:54Z</dcterms:modified>
  <cp:revision>24</cp:revision>
  <dc:subject/>
  <dc:title>MR. HAROON </dc:title>
</cp:coreProperties>
</file>